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0B56ED-A511-49DA-9F90-5400FC937BC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25D5E-2435-4A5E-9B94-EC2BD4FEC1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same number is only about 10 percent in the 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26A93-A139-4CE0-B673-D6E85B54B8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93367B-F03E-49E6-829C-B59F2662F3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287A-6DD2-4B23-AE58-FDECD320E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495F-10C6-426D-B393-74EA680EF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EAE3-2501-451A-B8FB-5740DA31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4D5-55FD-4E07-885F-FC464642F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EAA6-1ADB-4E67-90C7-C3380731B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4B79-5A98-477C-AC57-DA2E4FA5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92977-5F95-4E44-8A63-7302992E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F95C-A1F4-41C5-AB44-6C1E12A23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314B-C997-41AA-9904-1561F005B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D1E4-3892-448E-87DC-7F437123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82C3-C4CD-4B19-8B8B-E552044CA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BB30-D631-45BE-AE48-57855D52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2B23A-AE9A-444B-B4BF-BB549AEB90C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5AAF21-5880-4FEF-B3FC-607610CA18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315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750960"/>
            <a:ext cx="931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 in the Dominican Repub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students are required to attend kinder-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. This is known as “basica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students attend school for half a day (tanda unica). But this is now chang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basica students attend “liceo” which is the equivalent high school in 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quired subjects include: Math, Lengua Española,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Statist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% of children &amp; the youth in the DR attend  public sch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6% rate of literacy for youth ages 15-24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% primary school enrollment r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Oval 4"/>
          <p:cNvGrpSpPr/>
          <p:nvPr/>
        </p:nvGrpSpPr>
        <p:grpSpPr>
          <a:xfrm>
            <a:off x="4863960" y="3535200"/>
            <a:ext cx="3183120" cy="2347920"/>
            <a:chOff x="4863960" y="3535200"/>
            <a:chExt cx="3183120" cy="2347920"/>
          </a:xfrm>
        </p:grpSpPr>
        <p:pic>
          <p:nvPicPr>
            <p:cNvPr id="55" name="Oval 4" descr=""/>
            <p:cNvPicPr/>
            <p:nvPr/>
          </p:nvPicPr>
          <p:blipFill>
            <a:blip r:embed="rId1"/>
            <a:stretch/>
          </p:blipFill>
          <p:spPr>
            <a:xfrm>
              <a:off x="4863960" y="3535200"/>
              <a:ext cx="31831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881600" y="3556080"/>
              <a:ext cx="3152880" cy="23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4"/>
          <p:cNvSpPr/>
          <p:nvPr/>
        </p:nvSpPr>
        <p:spPr>
          <a:xfrm>
            <a:off x="2093760" y="1417680"/>
            <a:ext cx="77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2093760" y="3516480"/>
            <a:ext cx="8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2093760" y="5048280"/>
            <a:ext cx="77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very 100 Dominican students who enter schoo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 complet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3 complete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2 complete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ut of every two Dominican students will not complete high 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students who complete school may be missing some basic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860400" y="382680"/>
            <a:ext cx="690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ent Refor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ase in Fu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Historically the Dominican Republic had spent significantly less of its budget on education than other Latin American countries. Since 2012 the government has committed to spending at least 4% of its GDP on education (which more than doubles education spendin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 of “Tanda Unica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s of the 2013-2014 school the year the government has slowly begun rolling out “tanda unica’” schools. This means that children will attend school a full instead of a half day. By 2018 all students should have access to a full day of school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re DREAM stud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students will be between 8-14 years of 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them would be defined as “underprivileged” in the States. Few have parents who completed more than a high school edu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read at or below a second grade level and some older students may be lacking in basic math &amp; literacy sk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of them are excited to meet you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estions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email Gerardo or me (Rebeca) with any questions you might have about education in the D.R. or DREAM’s students in particul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6:03:39Z</dcterms:created>
  <dc:creator>Rebeca Martinez</dc:creator>
  <dc:description/>
  <dc:language>en-US</dc:language>
  <cp:lastModifiedBy>Rebeca Martinez</cp:lastModifiedBy>
  <dcterms:modified xsi:type="dcterms:W3CDTF">2015-05-27T20:58:19Z</dcterms:modified>
  <cp:revision>31</cp:revision>
  <dc:subject/>
  <dc:title>Classroom Management Tools</dc:title>
</cp:coreProperties>
</file>