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4FADF-9D9C-423F-BF76-A7CDC79F7B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D43E6-A260-4D66-929C-730DB78B9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same number is only about 10 percent in the 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B179B-2D49-46BC-80AE-9ACE43931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65825-3299-4E8E-A977-80C95E031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35B-38EA-4DEF-9FCE-027683C1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14F-3899-4EE4-8B2E-B66355EC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B09-4B0B-4E68-87CF-A9981A57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A25-AA5F-41B0-BC81-6CDD187B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9A8-4E84-42A7-9270-01CC5BB3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155-8B2D-494D-A970-B0A8E115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9A2-1F0C-4FFB-9D58-3BF566BD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AB4-1E9D-4E35-9EEE-7281FD7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6D2-7375-4165-AAD4-5C47A71D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7B5-C883-43F7-AE4A-2F17D207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5E8-E060-48C3-9650-C5848113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7DF-2429-48FF-ADE5-E756C32D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9EBCC-3E14-4100-BA0A-D8914B3F35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D67CE-FA33-492F-9232-5EC56B040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315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750960"/>
            <a:ext cx="931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 in the Dominican Repub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students are required to attend kinder-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. This is known as “basica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students attend school for half a day (tanda unica). But this is now chang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basica students attend “liceo” which is the equivalent high school in 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quired subjects include: Math, Lengua Española,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Statistic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% of children &amp; the youth in the DR attend  public sch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6% rate of literacy for youth ages 15-24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% primary school enrollment r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Oval 4"/>
          <p:cNvGrpSpPr/>
          <p:nvPr/>
        </p:nvGrpSpPr>
        <p:grpSpPr>
          <a:xfrm>
            <a:off x="4863960" y="3535200"/>
            <a:ext cx="3183120" cy="2347920"/>
            <a:chOff x="4863960" y="3535200"/>
            <a:chExt cx="3183120" cy="2347920"/>
          </a:xfrm>
        </p:grpSpPr>
        <p:pic>
          <p:nvPicPr>
            <p:cNvPr id="55" name="Oval 4" descr=""/>
            <p:cNvPicPr/>
            <p:nvPr/>
          </p:nvPicPr>
          <p:blipFill>
            <a:blip r:embed="rId1"/>
            <a:stretch/>
          </p:blipFill>
          <p:spPr>
            <a:xfrm>
              <a:off x="4863960" y="3535200"/>
              <a:ext cx="31831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881600" y="3556080"/>
              <a:ext cx="3152880" cy="23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4"/>
          <p:cNvSpPr/>
          <p:nvPr/>
        </p:nvSpPr>
        <p:spPr>
          <a:xfrm>
            <a:off x="2093760" y="1417680"/>
            <a:ext cx="77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2093760" y="3516480"/>
            <a:ext cx="8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2093760" y="5048280"/>
            <a:ext cx="77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very 100 Dominican students who enter schoo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 complet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3 complete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2 complete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ut of every two Dominican students will not complete high 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students who complete school may be missing some basic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860400" y="382680"/>
            <a:ext cx="690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ent Refor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ase in Fu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Historically the Dominican Republic had spent significantly less of its budget on education than other Latin American countries. Since 2012 the government has committed to spending at least 4% of its GDP on education (which more than doubles education spendin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 of “Tanda Unica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As of the 2013-2014 school the year the government has slowly begun rolling out “tanda unica’” schools. This means that children will attend school a full instead of a half day. By 2018 all students should have access to a full day of school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re DREAM stud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students will be between 8-14 years of 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them would be defined as “underprivileged” in the States. Few have parents who completed more than a high school edu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read at or below a second grade level and some older students may be lacking in basic math &amp; literacy sk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of them are excited to meet you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estions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email Gerardo or me (Rebeca) with any questions you might have about education in the D.R. or DREAM’s students in particul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6:03:39Z</dcterms:created>
  <dc:creator>Rebeca Martinez</dc:creator>
  <dc:description/>
  <dc:language>en-US</dc:language>
  <cp:lastModifiedBy>Rebeca Martinez</cp:lastModifiedBy>
  <dcterms:modified xsi:type="dcterms:W3CDTF">2015-05-27T20:58:19Z</dcterms:modified>
  <cp:revision>31</cp:revision>
  <dc:subject/>
  <dc:title>Classroom Management Tools</dc:title>
</cp:coreProperties>
</file>