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6D839-49FF-46A2-A104-973B36EBD7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E770E-187A-4CDE-AF29-FE10CAB7A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same number is only about 10 percent in the 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14389-94B0-456A-9EA0-6E161A983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C4A2E-4BAF-4ED9-81C2-E1F598C78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5C7-316D-4DCB-BFCF-FD167F2B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E3E-C4E7-4F25-986D-871395F8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E5A-11E7-437B-AD65-47A026E9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81D-9B14-474C-ACF9-6F2E8424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13A-966F-41DA-B283-DB08A045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D36-EFAD-4CF6-92CD-4FE09A76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E1D-1FD5-4962-B516-71C01115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65C-323A-4631-88A4-87B9B318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E85-8BD0-4E81-AD7C-F9698F0F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C4C-8149-4712-B6D7-F6D41AD4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B53-A0BD-4062-BF29-B257E8E9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FC9-80B1-4E0C-BE05-67331998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F7360-4471-4353-8A2F-FD7120E326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5645A-4B1A-4721-91EA-4972475E4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315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0" y="750960"/>
            <a:ext cx="931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 in the Dominican Repub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students are required to attend kinder-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. This is known as “basica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students attend school for half a day (tanda unica). But this is now chang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basica students attend “liceo” which is the equivalent high school in the United St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quired subjects include: Math, Lengua Española, 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Statistic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% of children &amp; the youth in the DR attend  public sch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6% rate of literacy for youth ages 15-24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% primary school enrollment r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Oval 4"/>
          <p:cNvGrpSpPr/>
          <p:nvPr/>
        </p:nvGrpSpPr>
        <p:grpSpPr>
          <a:xfrm>
            <a:off x="4863960" y="3535200"/>
            <a:ext cx="3183120" cy="2347920"/>
            <a:chOff x="4863960" y="3535200"/>
            <a:chExt cx="3183120" cy="2347920"/>
          </a:xfrm>
        </p:grpSpPr>
        <p:pic>
          <p:nvPicPr>
            <p:cNvPr id="55" name="Oval 4" descr=""/>
            <p:cNvPicPr/>
            <p:nvPr/>
          </p:nvPicPr>
          <p:blipFill>
            <a:blip r:embed="rId1"/>
            <a:stretch/>
          </p:blipFill>
          <p:spPr>
            <a:xfrm>
              <a:off x="4863960" y="3535200"/>
              <a:ext cx="31831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881600" y="3556080"/>
              <a:ext cx="3152880" cy="23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14"/>
          <p:cNvSpPr/>
          <p:nvPr/>
        </p:nvSpPr>
        <p:spPr>
          <a:xfrm>
            <a:off x="2093760" y="1417680"/>
            <a:ext cx="77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2093760" y="3516480"/>
            <a:ext cx="82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2093760" y="5048280"/>
            <a:ext cx="77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very 100 Dominican students who enter schoo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 complet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3 complete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2 complete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ut of every two Dominican students will not complete high scho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students who complete school may be missing some basic sk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860400" y="382680"/>
            <a:ext cx="690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The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ent Refor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ase in Fun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Historically the Dominican Republic had spent significantly less of its budget on education than other Latin American countries. Since 2012 the government has committed to spending at least 4% of its GDP on education (which more than doubles education spending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 of “Tanda Unica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As of the 2013-2014 school the year the government has slowly begun rolling out “tanda unica’” schools. This means that children will attend school a full instead of a half day. By 2018 all students should have access to a full day of school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are DREAM studen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r students will be between 8-14 years of 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 them would be defined as “underprivileged” in the States. Few have parents who completed more than a high school edu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read at or below a second grade level and some older students may be lacking in basic math &amp; literacy sk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of them are excited to meet you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estions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email Gerardo or me (Rebeca) with any questions you might have about education in the D.R. or DREAM’s students in particula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16:03:39Z</dcterms:created>
  <dc:creator>Rebeca Martinez</dc:creator>
  <dc:description/>
  <dc:language>en-US</dc:language>
  <cp:lastModifiedBy>Rebeca Martinez</cp:lastModifiedBy>
  <dcterms:modified xsi:type="dcterms:W3CDTF">2015-05-27T20:58:19Z</dcterms:modified>
  <cp:revision>31</cp:revision>
  <dc:subject/>
  <dc:title>Classroom Management Tools</dc:title>
</cp:coreProperties>
</file>