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50B604-AC8B-4B3C-A906-47960689F14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DEBD76-6067-4CEA-B62F-9AF97651FB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at same number is only about 10 percent in the D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022946-AF6E-4AF7-8054-AF327AF745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F9EDDFE-F64E-4E0F-AD9B-D23C84F50E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28EA-0646-47BF-AB8F-2250A7E80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74AF-B03B-438C-82E1-D8058B36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5EC3-F87B-49E0-A79C-D845CD5E8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17B9-C304-465E-A6A6-8BA42B619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468C-69C7-4B4C-AABD-A7A1EF5D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F7CC-2AEC-4071-972B-47C1DD740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8264-E215-456A-863E-12661DA4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E0A6-83FA-4DC6-98BB-9F3188241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71C5-29C8-49E2-B84B-23CE522C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EABC-3249-4BA0-B4D9-B9ED54A3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FFAB-617F-4A0D-9E4D-BC72CC546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2FA6-7517-490B-9AFC-107C1916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DAC2B3-470B-41FE-AD3E-0B66F704495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0CF792-2B2D-43CD-9886-6798F02548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-1440" y="0"/>
            <a:ext cx="931536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0" y="750960"/>
            <a:ext cx="931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ducation  in the Dominican Republ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Ba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ll students are required to attend kinder-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rade. This is known as “basica”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st students attend school for half a day (tanda unica). But this is now changing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fter basica students attend “liceo” which is the equivalent high school in the United St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required subjects include: Math, Lengua Española, 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ey Statistic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0% of children &amp; the youth in the DR attend  public school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96% rate of literacy for youth ages 15-24 yea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0% primary school enrollment ra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dd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Oval 4"/>
          <p:cNvGrpSpPr/>
          <p:nvPr/>
        </p:nvGrpSpPr>
        <p:grpSpPr>
          <a:xfrm>
            <a:off x="4863960" y="3535200"/>
            <a:ext cx="3183120" cy="2347920"/>
            <a:chOff x="4863960" y="3535200"/>
            <a:chExt cx="3183120" cy="2347920"/>
          </a:xfrm>
        </p:grpSpPr>
        <p:pic>
          <p:nvPicPr>
            <p:cNvPr id="55" name="Oval 4" descr=""/>
            <p:cNvPicPr/>
            <p:nvPr/>
          </p:nvPicPr>
          <p:blipFill>
            <a:blip r:embed="rId1"/>
            <a:stretch/>
          </p:blipFill>
          <p:spPr>
            <a:xfrm>
              <a:off x="4863960" y="3535200"/>
              <a:ext cx="318312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4881600" y="3556080"/>
              <a:ext cx="3152880" cy="231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  <a:tab algn="l" pos="1244520"/>
                  <a:tab algn="l" pos="2489040"/>
                  <a:tab algn="l" pos="3733920"/>
                  <a:tab algn="l" pos="4978440"/>
                  <a:tab algn="l" pos="6222960"/>
                  <a:tab algn="l" pos="7467480"/>
                  <a:tab algn="l" pos="8712360"/>
                  <a:tab algn="l" pos="9956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TextBox 14"/>
          <p:cNvSpPr/>
          <p:nvPr/>
        </p:nvSpPr>
        <p:spPr>
          <a:xfrm>
            <a:off x="2093760" y="1417680"/>
            <a:ext cx="77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21"/>
          <p:cNvSpPr/>
          <p:nvPr/>
        </p:nvSpPr>
        <p:spPr>
          <a:xfrm>
            <a:off x="2093760" y="3516480"/>
            <a:ext cx="82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2"/>
          <p:cNvSpPr/>
          <p:nvPr/>
        </p:nvSpPr>
        <p:spPr>
          <a:xfrm>
            <a:off x="2093760" y="5048280"/>
            <a:ext cx="773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7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every 100 Dominican students who enter schoo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 complete 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3 complete 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2 complete 8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gra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ne out of every two Dominican students will not complete high schoo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ven students who complete school may be missing some basic skill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7080" indent="-307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860400" y="382680"/>
            <a:ext cx="690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Calibri"/>
              </a:rPr>
              <a:t>The 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cent Reform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crease in Fundin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Historically the Dominican Republic had spent significantly less of its budget on education than other Latin American countries. Since 2012 the government has committed to spending at least 4% of its GDP on education (which more than doubles education spending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mplementation of “Tanda Unica”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 As of the 2013-2014 school the year the government has slowly begun rolling out “tanda unica’” schools. This means that children will attend school a full instead of a half day. By 2018 all students should have access to a full day of school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5c2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o are DREAM students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4173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Your students will be between 8-14 years of ag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of them would be defined as “underprivileged” in the States. Few have parents who completed more than a high school educ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st read at or below a second grade level and some older students may be lacking in basic math &amp; literacy skill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l of them are excited to meet you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4440" indent="-33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¿Questions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lease email Gerardo or me (Rebeca) with any questions you might have about education in the D.R. or DREAM’s students in particular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7T16:03:39Z</dcterms:created>
  <dc:creator>Rebeca Martinez</dc:creator>
  <dc:description/>
  <dc:language>en-US</dc:language>
  <cp:lastModifiedBy>Rebeca Martinez</cp:lastModifiedBy>
  <dcterms:modified xsi:type="dcterms:W3CDTF">2015-05-27T20:58:19Z</dcterms:modified>
  <cp:revision>31</cp:revision>
  <dc:subject/>
  <dc:title>Classroom Management Tools</dc:title>
</cp:coreProperties>
</file>